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C9A4-95A4-49E4-B9FB-07F3BB36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9D4E-147C-4646-A7D8-0ED2E6F8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E85-5F6C-46F4-91EB-06ADD445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043-CD39-4768-A6FA-F8A69917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7427-696B-4561-974E-8C7AC360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4FDC-B90D-4883-A0C2-674F28E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7DE-615E-476A-A730-32F6B855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5365-B29D-4EE5-9C99-C180C29A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4B5-C3A3-4C1F-8DAA-091E2E0A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512-406E-482D-8BDB-056A5A20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A5B-534D-4639-B0D2-91E3020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E0F3-F4CA-43DA-A5E6-AF0AD868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378B-4C9E-4D4E-99BD-EFC51B96717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1T06:28:30Z</dcterms:created>
  <dc:creator>root</dc:creator>
  <dc:description/>
  <dc:language>en-US</dc:language>
  <cp:lastModifiedBy>root</cp:lastModifiedBy>
  <dcterms:modified xsi:type="dcterms:W3CDTF">2020-12-21T06:28:43Z</dcterms:modified>
  <cp:revision>1</cp:revision>
  <dc:subject/>
  <dc:title>PowerPoint プレゼンテーション</dc:title>
</cp:coreProperties>
</file>